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911-25E2-4B76-8C05-C9BA9C7BD9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8CF-189B-47EF-8FCA-934CCC2910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F699-14BB-4ED9-A3FC-462D1E685C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788E-651F-4012-8C39-ADD7B74844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04B-D250-4B9F-B1AF-075F3215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A74-1F16-4864-9E9D-F30E0272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338-6187-4563-87EE-B3D057CD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2EE-F4DE-43CA-AF9E-BF1B1EDE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59D5-B14F-4BE2-A84A-52AA25B0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AC74-9DF3-48E2-B753-3C5B046F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6B4-E6F6-479A-A3CB-9F25CABD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8DF6-3CDC-4C07-9225-A666039C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359C-5639-4901-A1E2-E65F6EC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78F6-14DB-4D80-B16C-C4635FF9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9C78-47DE-4E1D-B5CC-BE7AF7F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BCC-A208-4E9A-ACBE-304C184F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DF83-E82F-4BCF-8DC4-4EC2F28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90D-F4D7-4B36-9901-2A727CC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0B27-4BAA-4612-ABFE-D7626F3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99B8-A9EC-4C76-AA62-1512A565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2389-16F4-4990-BBB0-141F8717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D570-2270-4863-8423-1DE7EFB1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F855-E21F-44CA-972A-94010D0F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E417-3ED0-46B1-98D3-F6E03D9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0D75-2B7B-4074-9D91-C20D79A1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F4BD-C0FB-4DD6-A727-16540E81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753-E164-4E33-A3B6-C268D1EC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0E52-24E9-4C26-AA0B-2874496E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E957-F6FA-47E5-AFC2-7FF0EBF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4D67-05A5-4771-86B1-F2234A1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4F4C-0582-42BD-9FBF-A0BEDCF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D2F2-E580-4146-8BB3-4BE1E066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AFCD-D2E3-498D-8B6E-FE7E2EFC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2A0C-DA1A-433B-B5DD-C4F0710E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39C2-A856-4DFE-92FF-A94FE47D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0D7E0-5024-45EF-8F8C-CFAB73A3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CBBB-5EC5-4289-B7ED-DB657220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6A0-9C2F-497E-AF30-E957CDAC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3FD35-4A99-4D70-B941-094B9F2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0989-B9A4-4B0E-817E-378D792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8393-3C83-4BBC-8638-0EC9A1D6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78BD-428F-4258-BD18-6E84C7C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76FED-E866-4C1C-BDA2-830994F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5E94-95CB-4828-821C-5F9BEA6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D925-3E27-4EED-B60E-5E621C74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6090-4DD4-40F1-8CE9-A91B6E8F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D171-556D-46DB-BF4E-F4E2BAD8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865E-EFD5-4BC2-892A-47A03620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8AB-C044-4950-9702-E2BFA69C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EEA36-3A53-4586-AD04-1939E28D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0BE7-B731-4715-818F-5E5E63F7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3CBA-F2AB-4DA6-91D3-DD9D7C2C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532E-B9A2-49D3-9C3E-2B754FAF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B2C2-2D2E-48BC-8DDA-273F466F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12FB-3489-4BE7-B78A-25FC6B2A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51619-038B-419F-8075-249C69B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E9FA-8508-49C9-BFD5-B2A297B8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58BCD-86B2-4407-8E89-28B1899D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31B0-3C47-47A3-AB8B-0FD85522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B96-8309-4BC7-8B8E-5A053941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542A-15A2-4C97-9DB4-EE22C43F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CD981-627B-4774-84EF-45DAC99A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41409-C47A-4F92-BFC1-92DDE057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826A-E01B-484E-8389-BE4F98BE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9D286-3465-4D82-A476-5508710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7390-EAD2-407C-AE81-8700BE73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036BF-87A1-4498-9999-0B7F199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C2DD-5EA1-44C6-97E1-F5CC9B6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3D597-D7A6-46EE-8141-DFB792A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5E27-D5A6-4D18-8D49-5D8146F5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804-729F-4F01-93A8-28E9DED6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2EBF7-CB5C-4D62-8045-C80BF2CD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5B099-33A1-4D83-8570-08BAE59A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04CF-AF75-4C59-812E-D60B0A49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381BD-0F16-47B6-9098-6AAE30F5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897A4-80AD-4116-99F5-228E3414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C791-3B76-44D5-9585-5AF8A544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CD473-F2EE-4971-A11A-D401B5A9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5891A-167F-4E7F-8432-6037BA26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847D-46B6-4328-9736-285DD232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D97C0-8E21-437F-A346-16D4C041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A45-B5CF-462D-A054-CBA1CA6D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F7262-EF99-4278-B07F-E6F7E6A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7F6A4-3DE4-4E99-9A6D-7216651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B9DE2-FE7B-42AA-AAF5-6FC1F9A7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32F40-F368-4BE2-802F-7C82D6C1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BC4B4-C39F-497A-A51A-3170229A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52F-15AD-4642-AD83-F922E1A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7112-319A-436F-818B-41DCA9104868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D4A5-5171-4001-B3C0-DEA03B026B0D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CB19-8D6A-4573-8F4D-83677B169A7C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54AF-26B3-441D-99DE-FFC7EC76D21F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3A04-EA88-41E6-B3AA-F4C711EF9036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7FDA-339D-4B9F-8E1C-2FAC371A2D37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C914-7049-45B9-9DAC-38573020093D}" type="slidenum">
              <a:rPr b="0" lang="en-GB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530280" y="4157640"/>
            <a:ext cx="8163000" cy="21700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rbel"/>
              </a:rPr>
              <a:t>AS Level Media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American Beauty (1999)"/>
          <p:cNvPicPr/>
          <p:nvPr/>
        </p:nvPicPr>
        <p:blipFill>
          <a:blip r:embed="rId2"/>
          <a:stretch/>
        </p:blipFill>
        <p:spPr>
          <a:xfrm>
            <a:off x="4067280" y="404640"/>
            <a:ext cx="4734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sin-city"/>
          <p:cNvPicPr/>
          <p:nvPr/>
        </p:nvPicPr>
        <p:blipFill>
          <a:blip r:embed="rId1"/>
          <a:stretch/>
        </p:blipFill>
        <p:spPr>
          <a:xfrm>
            <a:off x="395280" y="836640"/>
            <a:ext cx="828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men-in-black-2-movie"/>
          <p:cNvPicPr/>
          <p:nvPr/>
        </p:nvPicPr>
        <p:blipFill>
          <a:blip r:embed="rId1"/>
          <a:stretch/>
        </p:blipFill>
        <p:spPr>
          <a:xfrm>
            <a:off x="755640" y="476280"/>
            <a:ext cx="7505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Colou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PMingLiU"/>
              </a:rPr>
              <a:t>Colour carries certain connotations which may add meaning to a scene (i.e. Red = Danger/Passion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PMingLiU"/>
              </a:rPr>
              <a:t>Can give a scene a particular look, feel or moo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PMingLiU"/>
              </a:rPr>
              <a:t>Can be used for dramatic effec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5" descr="virgin-suicides_420"/>
          <p:cNvPicPr/>
          <p:nvPr/>
        </p:nvPicPr>
        <p:blipFill>
          <a:blip r:embed="rId1"/>
          <a:stretch/>
        </p:blipFill>
        <p:spPr>
          <a:xfrm>
            <a:off x="4876920" y="1600200"/>
            <a:ext cx="3765600" cy="1792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american_beauty_2"/>
          <p:cNvPicPr/>
          <p:nvPr/>
        </p:nvPicPr>
        <p:blipFill>
          <a:blip r:embed="rId2"/>
          <a:stretch/>
        </p:blipFill>
        <p:spPr>
          <a:xfrm>
            <a:off x="4859280" y="3860640"/>
            <a:ext cx="373392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Ligh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To highlight important characters or objects within the fr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To make characters look mysterious by shading sections of the face &amp; bo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To reflect a characters mental state/hidden emotions (i.e. bright = happy, dark = disturbed, strobe effect = confus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c1eeff"/>
              </a:solidFill>
              <a:latin typeface="Consolas"/>
              <a:ea typeface="PMingLiU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000" spc="-1" strike="noStrike">
              <a:solidFill>
                <a:srgbClr val="ffffff"/>
              </a:solidFill>
              <a:latin typeface="Corbel"/>
              <a:ea typeface="PMingLiU"/>
            </a:endParaRPr>
          </a:p>
        </p:txBody>
      </p:sp>
      <p:pic>
        <p:nvPicPr>
          <p:cNvPr id="401" name="Picture 5" descr="American Beauty (1999)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402" name="Oval 6"/>
          <p:cNvSpPr/>
          <p:nvPr/>
        </p:nvSpPr>
        <p:spPr>
          <a:xfrm>
            <a:off x="4114800" y="4952880"/>
            <a:ext cx="1523880" cy="990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EY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1828800" y="2133720"/>
            <a:ext cx="1447920" cy="1143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LLER LIGH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8"/>
          <p:cNvSpPr/>
          <p:nvPr/>
        </p:nvSpPr>
        <p:spPr>
          <a:xfrm>
            <a:off x="6248520" y="1143000"/>
            <a:ext cx="1295280" cy="990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 flipV="1">
            <a:off x="487692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 flipH="1" flipV="1">
            <a:off x="609480" y="1066320"/>
            <a:ext cx="152424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>
            <a:off x="3276720" y="2819520"/>
            <a:ext cx="236196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>
            <a:off x="3048120" y="3124080"/>
            <a:ext cx="68580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 flipH="1">
            <a:off x="4419720" y="167652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7543800" y="1600200"/>
            <a:ext cx="12193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nsolas"/>
                <a:ea typeface="PMingLiU"/>
              </a:rPr>
              <a:t>Low Key Lighting</a:t>
            </a:r>
            <a:r>
              <a:rPr b="0" lang="en-GB" sz="4000" spc="-1" strike="noStrike">
                <a:solidFill>
                  <a:srgbClr val="000000"/>
                </a:solidFill>
                <a:latin typeface="Consolas"/>
                <a:ea typeface="PMingLiU"/>
              </a:rPr>
              <a:t> of Ligh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560" y="1628640"/>
            <a:ext cx="4249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Created by using only the key &amp; back ligh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Produces  sharp contrasts of light and dark area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Deep, distinct shadows/silhouettes are form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5" descr="SinCity_2d"/>
          <p:cNvPicPr/>
          <p:nvPr/>
        </p:nvPicPr>
        <p:blipFill>
          <a:blip r:embed="rId1"/>
          <a:stretch/>
        </p:blipFill>
        <p:spPr>
          <a:xfrm>
            <a:off x="4572000" y="2565360"/>
            <a:ext cx="4572000" cy="257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5292720" y="59500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Example = Horror fil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nsolas"/>
                <a:ea typeface="PMingLiU"/>
              </a:rPr>
              <a:t>High Key Ligh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560" y="162864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More filler lights are used. Lighting is natural and realistic to our ey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Produces brightly lit sets or a sunny day (right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  <a:ea typeface="PMingLiU"/>
              </a:rPr>
              <a:t>Example: Rom-Co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7" name="Picture 6" descr="legallyblonde2"/>
          <p:cNvPicPr/>
          <p:nvPr/>
        </p:nvPicPr>
        <p:blipFill>
          <a:blip r:embed="rId1"/>
          <a:stretch/>
        </p:blipFill>
        <p:spPr>
          <a:xfrm>
            <a:off x="4916520" y="1700280"/>
            <a:ext cx="3579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olas"/>
              </a:rPr>
              <a:t>What kind of lighting is used?</a:t>
            </a:r>
            <a:r>
              <a:rPr b="0" lang="en-US" sz="3600" spc="-1" strike="noStrike">
                <a:solidFill>
                  <a:srgbClr val="000000"/>
                </a:solidFill>
                <a:latin typeface="Consolas"/>
              </a:rPr>
              <a:t> images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Picture 5" descr="man"/>
          <p:cNvPicPr/>
          <p:nvPr/>
        </p:nvPicPr>
        <p:blipFill>
          <a:blip r:embed="rId1"/>
          <a:stretch/>
        </p:blipFill>
        <p:spPr>
          <a:xfrm>
            <a:off x="3505320" y="1752480"/>
            <a:ext cx="2514600" cy="1825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a-danas_ins2"/>
          <p:cNvPicPr/>
          <p:nvPr/>
        </p:nvPicPr>
        <p:blipFill>
          <a:blip r:embed="rId2"/>
          <a:stretch/>
        </p:blipFill>
        <p:spPr>
          <a:xfrm>
            <a:off x="304920" y="4311720"/>
            <a:ext cx="2743200" cy="1778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donniedarko_800"/>
          <p:cNvPicPr/>
          <p:nvPr/>
        </p:nvPicPr>
        <p:blipFill>
          <a:blip r:embed="rId3"/>
          <a:stretch/>
        </p:blipFill>
        <p:spPr>
          <a:xfrm>
            <a:off x="3276720" y="4289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Donnie_Darko-2"/>
          <p:cNvPicPr/>
          <p:nvPr/>
        </p:nvPicPr>
        <p:blipFill>
          <a:blip r:embed="rId4"/>
          <a:stretch/>
        </p:blipFill>
        <p:spPr>
          <a:xfrm>
            <a:off x="457200" y="1752480"/>
            <a:ext cx="2743200" cy="1808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american-pie-2"/>
          <p:cNvPicPr/>
          <p:nvPr/>
        </p:nvPicPr>
        <p:blipFill>
          <a:blip r:embed="rId5"/>
          <a:stretch/>
        </p:blipFill>
        <p:spPr>
          <a:xfrm>
            <a:off x="6172200" y="4267080"/>
            <a:ext cx="2736720" cy="1770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filmchar"/>
          <p:cNvPicPr/>
          <p:nvPr/>
        </p:nvPicPr>
        <p:blipFill>
          <a:blip r:embed="rId6"/>
          <a:stretch/>
        </p:blipFill>
        <p:spPr>
          <a:xfrm>
            <a:off x="6248520" y="1752480"/>
            <a:ext cx="2590560" cy="18068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2"/>
          <p:cNvSpPr/>
          <p:nvPr/>
        </p:nvSpPr>
        <p:spPr>
          <a:xfrm>
            <a:off x="-17280" y="1834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867280" y="4342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-360" y="4342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6107040" y="1828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985480" y="434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3283920" y="18280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olas"/>
              </a:rPr>
              <a:t>Analysing Mise en Scen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2" name="Picture 4" descr="American Beauty (1999)"/>
          <p:cNvPicPr/>
          <p:nvPr/>
        </p:nvPicPr>
        <p:blipFill>
          <a:blip r:embed="rId1"/>
          <a:stretch/>
        </p:blipFill>
        <p:spPr>
          <a:xfrm>
            <a:off x="762120" y="1268280"/>
            <a:ext cx="7753320" cy="52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Mise-en-scen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A French term meaning </a:t>
            </a:r>
            <a:r>
              <a:rPr b="0" i="1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what is put into a scene or fram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Visual information in </a:t>
            </a:r>
            <a:r>
              <a:rPr b="0" i="1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front 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of the camer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Communicates essential information to the audienc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5 key elements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Settings &amp; Pr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Costume, Hair &amp; Make U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Facial Expressions &amp; Body Langua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Lighting &amp; Colou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Positioning of characters/objects within the fr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1eeff"/>
                </a:solidFill>
                <a:latin typeface="Consolas"/>
              </a:rPr>
              <a:t>Facial Expression/Body Languag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Facial Expressions provide a clear indicator of how someone is feeling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If someone is smiling broadly, we assume they are happy but we may get a different feeling if this is accompanied by scary musi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Body Language may also indicate how a character feels towards another character or may reflect the state of their relationshi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rbel"/>
                <a:ea typeface="PMingLiU"/>
              </a:rPr>
              <a:t>TASK: What meanings/emotions do the following images conve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spiderman_kiss2"/>
          <p:cNvPicPr/>
          <p:nvPr/>
        </p:nvPicPr>
        <p:blipFill>
          <a:blip r:embed="rId1"/>
          <a:stretch/>
        </p:blipFill>
        <p:spPr>
          <a:xfrm>
            <a:off x="755640" y="476280"/>
            <a:ext cx="7421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shining"/>
          <p:cNvPicPr/>
          <p:nvPr/>
        </p:nvPicPr>
        <p:blipFill>
          <a:blip r:embed="rId1"/>
          <a:stretch/>
        </p:blipFill>
        <p:spPr>
          <a:xfrm>
            <a:off x="1835280" y="189000"/>
            <a:ext cx="52578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mm_young"/>
          <p:cNvPicPr/>
          <p:nvPr/>
        </p:nvPicPr>
        <p:blipFill>
          <a:blip r:embed="rId1"/>
          <a:stretch/>
        </p:blipFill>
        <p:spPr>
          <a:xfrm>
            <a:off x="1979640" y="189000"/>
            <a:ext cx="51213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Positio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Positioning within a frame can draw our attention to an important character/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A film-maker can use positioning to indicate relationships between peop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PMingLiU"/>
              </a:rPr>
              <a:t>What does the positioning in the following images reveal about the characters/fil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breakup"/>
          <p:cNvPicPr/>
          <p:nvPr/>
        </p:nvPicPr>
        <p:blipFill>
          <a:blip r:embed="rId1"/>
          <a:stretch/>
        </p:blipFill>
        <p:spPr>
          <a:xfrm>
            <a:off x="684360" y="981000"/>
            <a:ext cx="7866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2:40:49Z</dcterms:created>
  <dc:creator>Grainne</dc:creator>
  <dc:description/>
  <dc:language>en-US</dc:language>
  <cp:lastModifiedBy>Grainne</cp:lastModifiedBy>
  <dcterms:modified xsi:type="dcterms:W3CDTF">2010-09-22T12:19:08Z</dcterms:modified>
  <cp:revision>3</cp:revision>
  <dc:subject/>
  <dc:title>Mise en Scene</dc:title>
</cp:coreProperties>
</file>